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C056-C40C-4E71-B178-23128C88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E395-C4AA-46F3-8300-C37BB99A88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56A3-D6B3-418F-8C7C-77A61D0209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963-A5AF-4D61-AE49-96FA4586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735-EF72-453C-A7CD-34FE5600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7E4-6F8C-4EE1-B5DF-A538B9B2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4ED-BBC3-4185-AD81-9348E133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398-0B04-4FCA-8D23-DD3D6ABE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1C1-9552-4890-9FEA-21FD4307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B49-4258-4BA4-849E-6DACED0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E73-1100-49BE-AF63-15F20AC8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445-6E95-4417-965F-095DB92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B39-D67D-4800-981C-2FAF1D7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68D-982D-421B-9121-D4D98CB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C30-DFCA-41E3-BCF2-B8F2DF6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275-4492-4639-95C5-E631140F03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sschachter@selec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838080" y="3808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76092"/>
                </a:solidFill>
                <a:latin typeface="Palatino Linotype"/>
              </a:rPr>
              <a:t>THE SOUTHEAST EUROPEAN LAW ENFORCEMENT CENTER (SELE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76092"/>
                </a:solidFill>
                <a:latin typeface="Palatino Linotype"/>
              </a:rPr>
              <a:t>THE SOUTHEAST EUROPEAN PROSECUTORS ADVISORY GROUP (SEEPA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1295280" y="2438280"/>
            <a:ext cx="2449800" cy="21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5486400" y="2438280"/>
            <a:ext cx="270504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06080" y="1219320"/>
            <a:ext cx="87375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Equipped with cutting edge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Increase the operational capacity of the L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SELEC Intelligence Reporting Application Tool - S.I.R.A.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Virtual reality environment for trai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1509840" y="-23760"/>
            <a:ext cx="69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Operational Cent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K:\PR\Pictures\OCU\OCU2.jpg"/>
          <p:cNvPicPr/>
          <p:nvPr/>
        </p:nvPicPr>
        <p:blipFill>
          <a:blip r:embed="rId2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K:\PR\Pictures\OCU\OCU2.jpg"/>
          <p:cNvPicPr/>
          <p:nvPr/>
        </p:nvPicPr>
        <p:blipFill>
          <a:blip r:embed="rId3"/>
          <a:stretch/>
        </p:blipFill>
        <p:spPr>
          <a:xfrm>
            <a:off x="2057400" y="3505320"/>
            <a:ext cx="51483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080" y="121932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SEEPAG Members contact each other direct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Are involved in SELEC operations, when requested and need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 </a:t>
            </a:r>
            <a:r>
              <a:rPr b="0" lang="en-US" sz="2700" spc="-1" strike="noStrike">
                <a:solidFill>
                  <a:srgbClr val="424456"/>
                </a:solidFill>
                <a:latin typeface="Palatino Linotype"/>
              </a:rPr>
              <a:t>Have regular meetings/conferences (members and representatives of SELEC partner countries and organization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2057400" y="68400"/>
            <a:ext cx="515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How SEEPA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K:\PR\Pictures\OCU\OCU2.jpg"/>
          <p:cNvPicPr/>
          <p:nvPr/>
        </p:nvPicPr>
        <p:blipFill>
          <a:blip r:embed="rId1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829640" y="130320"/>
            <a:ext cx="1212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83680" y="121932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700" spc="-1" strike="noStrike">
                <a:solidFill>
                  <a:srgbClr val="424456"/>
                </a:solidFill>
                <a:latin typeface="Palatino Linotype"/>
              </a:rPr>
              <a:t>SEEPAG Memb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24456"/>
                </a:solidFill>
                <a:latin typeface="Palatino Linotype"/>
              </a:rPr>
              <a:t>SEEPAG Chairmanship: rotation of the Chairmanship among the members, in alphabetical   order, for one (1) year te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24456"/>
                </a:solidFill>
                <a:latin typeface="Palatino Linotype"/>
              </a:rPr>
              <a:t>SEEPAG Secretariat- based in Bucharest, provided by SEL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06440" y="68400"/>
            <a:ext cx="719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e3f68"/>
                </a:solidFill>
                <a:latin typeface="Verdana"/>
                <a:ea typeface="Verdana"/>
              </a:rPr>
              <a:t>SEEPAG organizational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K:\PR\Pictures\OCU\OCU2.jpg"/>
          <p:cNvPicPr/>
          <p:nvPr/>
        </p:nvPicPr>
        <p:blipFill>
          <a:blip r:embed="rId1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829640" y="130320"/>
            <a:ext cx="1212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880" y="114300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European Judicial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Project IPA 2019- Countering Serious Crime in Western Balkans (LoI 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CASC Network (list of central authorities during COVID 19 pandemi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Black Sea Prosecutors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Palatino Linotype"/>
              </a:rPr>
              <a:t>Regional Cooperation Council (RCC), UNODC, a/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406440" y="68400"/>
            <a:ext cx="719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e3f68"/>
                </a:solidFill>
                <a:latin typeface="Verdana"/>
                <a:ea typeface="Verdana"/>
              </a:rPr>
              <a:t>SEEPAG partner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K:\PR\Pictures\OCU\OCU2.jpg"/>
          <p:cNvPicPr/>
          <p:nvPr/>
        </p:nvPicPr>
        <p:blipFill>
          <a:blip r:embed="rId1"/>
          <a:stretch/>
        </p:blipFill>
        <p:spPr>
          <a:xfrm>
            <a:off x="-14630400" y="-7372440"/>
            <a:ext cx="384012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829640" y="130320"/>
            <a:ext cx="1212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le 1"/>
          <p:cNvSpPr/>
          <p:nvPr/>
        </p:nvSpPr>
        <p:spPr>
          <a:xfrm>
            <a:off x="1981080" y="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SEEPAG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Diagram 3" descr=""/>
          <p:cNvPicPr/>
          <p:nvPr/>
        </p:nvPicPr>
        <p:blipFill>
          <a:blip r:embed="rId1"/>
          <a:stretch/>
        </p:blipFill>
        <p:spPr>
          <a:xfrm>
            <a:off x="536400" y="987480"/>
            <a:ext cx="7894800" cy="5578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7743960" y="0"/>
            <a:ext cx="126036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479520" y="-334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838080" y="268200"/>
            <a:ext cx="1444680" cy="129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sschachter\Desktop\Seepag final.png"/>
          <p:cNvPicPr/>
          <p:nvPr/>
        </p:nvPicPr>
        <p:blipFill>
          <a:blip r:embed="rId2"/>
          <a:stretch/>
        </p:blipFill>
        <p:spPr>
          <a:xfrm>
            <a:off x="6934320" y="198360"/>
            <a:ext cx="1631880" cy="1260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3"/>
          <p:cNvSpPr/>
          <p:nvPr/>
        </p:nvSpPr>
        <p:spPr>
          <a:xfrm>
            <a:off x="3048120" y="5943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Palatino"/>
                <a:ea typeface="Arial"/>
              </a:rPr>
              <a:t>www.sele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066680" y="1905120"/>
            <a:ext cx="65534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parajita"/>
                <a:ea typeface="Aparajit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Ms. Sonia SCHACH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SELEC Legal Officer/ SEEPAG Secre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Phone: 0040735.355.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E-mail: </a:t>
            </a:r>
            <a:r>
              <a:rPr b="0" lang="en-GB" sz="2600" spc="-1" strike="noStrike" u="sng">
                <a:solidFill>
                  <a:srgbClr val="67afbd"/>
                </a:solidFill>
                <a:uFillTx/>
                <a:latin typeface="Aparajita"/>
                <a:ea typeface="Aparajita"/>
                <a:hlinkClick r:id="rId3"/>
              </a:rPr>
              <a:t>sschachter@selec.org</a:t>
            </a: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; secretariat@seepag.inf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www.selec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339840"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2514600" y="5724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About SEEP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Users\sschachter\Desktop\Seepag final.png"/>
          <p:cNvPicPr/>
          <p:nvPr/>
        </p:nvPicPr>
        <p:blipFill>
          <a:blip r:embed="rId1"/>
          <a:stretch/>
        </p:blipFill>
        <p:spPr>
          <a:xfrm>
            <a:off x="8034480" y="95400"/>
            <a:ext cx="1073160" cy="828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79600" y="1220760"/>
            <a:ext cx="80308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Judicial mechanism for international cooperation, under SELEC ausp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secutorial network established in </a:t>
            </a:r>
            <a:r>
              <a:rPr b="0" lang="en-GB" sz="2500" spc="-1" strike="noStrike">
                <a:solidFill>
                  <a:srgbClr val="0070c0"/>
                </a:solidFill>
                <a:latin typeface="Palatino Linotype"/>
                <a:ea typeface="Arial"/>
              </a:rPr>
              <a:t>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GB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Experiences prosecutors and judges working in international co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Facilitate and speed up the cooperation in serious trans-border crime investigations and c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339840"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2400480" y="2844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sschachter\AppData\Local\Microsoft\Windows\Temporary Internet Files\Content.Outlook\CSUZ6RZW\steaguri (2).png"/>
          <p:cNvPicPr/>
          <p:nvPr/>
        </p:nvPicPr>
        <p:blipFill>
          <a:blip r:embed="rId1"/>
          <a:srcRect l="0" t="5215" r="0" b="0"/>
          <a:stretch/>
        </p:blipFill>
        <p:spPr>
          <a:xfrm>
            <a:off x="304920" y="2133720"/>
            <a:ext cx="858816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882720" cy="79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sschachter\Desktop\Seepag final.png"/>
          <p:cNvPicPr/>
          <p:nvPr/>
        </p:nvPicPr>
        <p:blipFill>
          <a:blip r:embed="rId3"/>
          <a:stretch/>
        </p:blipFill>
        <p:spPr>
          <a:xfrm>
            <a:off x="0" y="47520"/>
            <a:ext cx="10731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mote cooperation and better relations among the prosecution offic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vide support and assistance to </a:t>
            </a:r>
            <a:r>
              <a:rPr b="0" lang="en-US" sz="2500" spc="-1" strike="noStrike">
                <a:solidFill>
                  <a:srgbClr val="0070c0"/>
                </a:solidFill>
                <a:latin typeface="Palatino Linotype"/>
                <a:ea typeface="Arial"/>
              </a:rPr>
              <a:t>SELEC</a:t>
            </a: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Provide advice, assistance, and guidance on criminal policy and legal issues related to law enforcement matters in the reg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42445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24456"/>
                </a:solidFill>
                <a:latin typeface="Palatino Linotype"/>
                <a:ea typeface="Arial"/>
              </a:rPr>
              <a:t>Exchange views, cases and best practices, a/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828800" y="936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SEEPA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sschachter\Desktop\Seepag final.png"/>
          <p:cNvPicPr/>
          <p:nvPr/>
        </p:nvPicPr>
        <p:blipFill>
          <a:blip r:embed="rId1"/>
          <a:stretch/>
        </p:blipFill>
        <p:spPr>
          <a:xfrm>
            <a:off x="8034480" y="95400"/>
            <a:ext cx="1073160" cy="82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regional operations.jpg"/>
          <p:cNvPicPr/>
          <p:nvPr/>
        </p:nvPicPr>
        <p:blipFill>
          <a:blip r:embed="rId1"/>
          <a:stretch/>
        </p:blipFill>
        <p:spPr>
          <a:xfrm>
            <a:off x="2590920" y="327672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-30240" y="12952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5840" indent="-329400"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5840" indent="-329400" algn="ctr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Palatino Linotype"/>
                <a:ea typeface="Arial"/>
              </a:rPr>
              <a:t>To provide support for the Member States and enhance coordination in preventing and combating trans-border crime, including serious and organized cr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243160" y="34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SELEC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2678040" y="-27000"/>
            <a:ext cx="355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What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533520" y="1066680"/>
            <a:ext cx="784836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Enhance the law enforcement cooperation in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Facilitate the swift exchange of information (L.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Support joint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Coordinate region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Produce analytic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Provide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Strengthen the operational capacities of M. S L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Organize Task For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Operational Cent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Network of prosecutors </a:t>
            </a:r>
            <a:r>
              <a:rPr b="0" lang="en-GB" sz="2400" spc="-1" strike="noStrike">
                <a:solidFill>
                  <a:srgbClr val="0070c0"/>
                </a:solidFill>
                <a:latin typeface="Palatino Linotype"/>
                <a:ea typeface="Arial"/>
              </a:rPr>
              <a:t>(SEEP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1"/>
          <p:cNvSpPr/>
          <p:nvPr/>
        </p:nvSpPr>
        <p:spPr>
          <a:xfrm>
            <a:off x="1954080" y="-47520"/>
            <a:ext cx="52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Oper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6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9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C:\Users\sschachter\Desktop\SELEC.ok.final.png"/>
          <p:cNvPicPr/>
          <p:nvPr/>
        </p:nvPicPr>
        <p:blipFill>
          <a:blip r:embed="rId1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685800" y="1295280"/>
            <a:ext cx="7696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More than </a:t>
            </a:r>
            <a:r>
              <a:rPr b="0" lang="en-GB" sz="2400" spc="-1" strike="noStrike">
                <a:solidFill>
                  <a:srgbClr val="0070c0"/>
                </a:solidFill>
                <a:latin typeface="Palatino Linotype"/>
                <a:ea typeface="Arial"/>
              </a:rPr>
              <a:t>30,000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exchanges of information and requests of assistance/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An average of</a:t>
            </a:r>
            <a:r>
              <a:rPr b="0" lang="en-GB" sz="2400" spc="-1" strike="noStrike">
                <a:solidFill>
                  <a:srgbClr val="0070c0"/>
                </a:solidFill>
                <a:latin typeface="Palatino Linotype"/>
                <a:ea typeface="Arial"/>
              </a:rPr>
              <a:t> 100 </a:t>
            </a: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joint investigations supported by SELEC 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Region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:\Exchange\images to be used\images bought from shuterstock\joint investigations.jpg"/>
          <p:cNvPicPr/>
          <p:nvPr/>
        </p:nvPicPr>
        <p:blipFill>
          <a:blip r:embed="rId2"/>
          <a:stretch/>
        </p:blipFill>
        <p:spPr>
          <a:xfrm>
            <a:off x="4346640" y="3584520"/>
            <a:ext cx="3938400" cy="262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rganized Crime Threat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Regular analytical reports </a:t>
            </a:r>
            <a:r>
              <a:rPr b="0" lang="en-GB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for S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424456"/>
              </a:buClr>
              <a:buFont typeface="Arial"/>
              <a:buChar char="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Evaluation Reports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n Regional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perational Analysis </a:t>
            </a:r>
            <a:r>
              <a:rPr b="0" lang="en-US" sz="2400" spc="-1" strike="noStrike">
                <a:solidFill>
                  <a:srgbClr val="424456"/>
                </a:solidFill>
                <a:latin typeface="Palatino Linotype"/>
                <a:ea typeface="Verdana"/>
              </a:rPr>
              <a:t>on Joint Investig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2133720" y="68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Analytic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7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0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sschachter\Desktop\AAR 2018\Cover OCTA.jpg"/>
          <p:cNvPicPr/>
          <p:nvPr/>
        </p:nvPicPr>
        <p:blipFill>
          <a:blip r:embed="rId1"/>
          <a:stretch/>
        </p:blipFill>
        <p:spPr>
          <a:xfrm>
            <a:off x="6461280" y="1603440"/>
            <a:ext cx="2549520" cy="669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gram 14" descr=""/>
          <p:cNvPicPr/>
          <p:nvPr/>
        </p:nvPicPr>
        <p:blipFill>
          <a:blip r:embed="rId1"/>
          <a:stretch/>
        </p:blipFill>
        <p:spPr>
          <a:xfrm>
            <a:off x="480960" y="1066680"/>
            <a:ext cx="7924680" cy="520560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2930400" y="47520"/>
            <a:ext cx="302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e3f68"/>
                </a:solidFill>
                <a:latin typeface="Verdana"/>
                <a:ea typeface="Verdana"/>
              </a:rPr>
              <a:t>Task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8"/>
          <p:cNvSpPr/>
          <p:nvPr/>
        </p:nvSpPr>
        <p:spPr>
          <a:xfrm>
            <a:off x="304920" y="914400"/>
            <a:ext cx="7412040" cy="0"/>
          </a:xfrm>
          <a:prstGeom prst="line">
            <a:avLst/>
          </a:prstGeom>
          <a:ln w="101520">
            <a:solidFill>
              <a:srgbClr val="fe7f00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2336760" y="6485040"/>
            <a:ext cx="444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Palatino Linotype"/>
              </a:rPr>
              <a:t>Southeast European Law Enforcemen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0"/>
          <p:cNvSpPr/>
          <p:nvPr/>
        </p:nvSpPr>
        <p:spPr>
          <a:xfrm>
            <a:off x="8424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1"/>
          <p:cNvSpPr/>
          <p:nvPr/>
        </p:nvSpPr>
        <p:spPr>
          <a:xfrm>
            <a:off x="6883560" y="6637320"/>
            <a:ext cx="2158920" cy="0"/>
          </a:xfrm>
          <a:prstGeom prst="line">
            <a:avLst/>
          </a:prstGeom>
          <a:ln w="6480">
            <a:solidFill>
              <a:srgbClr val="c3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C:\Users\sschachter\Desktop\SELEC.ok.final.png"/>
          <p:cNvPicPr/>
          <p:nvPr/>
        </p:nvPicPr>
        <p:blipFill>
          <a:blip r:embed="rId2"/>
          <a:stretch/>
        </p:blipFill>
        <p:spPr>
          <a:xfrm>
            <a:off x="7924680" y="76320"/>
            <a:ext cx="104472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7:55:20Z</dcterms:created>
  <dc:creator>Sonia SCHACHTER</dc:creator>
  <dc:description/>
  <dc:language>en-US</dc:language>
  <cp:lastModifiedBy>Selec9</cp:lastModifiedBy>
  <cp:lastPrinted>2019-09-04T15:03:26Z</cp:lastPrinted>
  <dcterms:modified xsi:type="dcterms:W3CDTF">2020-12-07T17:01:04Z</dcterms:modified>
  <cp:revision>1237</cp:revision>
  <dc:subject/>
  <dc:title>THB report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LCPolicyLabelValue">
    <vt:lpwstr>Document ID:EJN009-892649500-31219</vt:lpwstr>
  </property>
  <property fmtid="{D5CDD505-2E9C-101B-9397-08002B2CF9AE}" pid="3" name="_dlc_DocId">
    <vt:lpwstr>EJN009-892649500-31219</vt:lpwstr>
  </property>
  <property fmtid="{D5CDD505-2E9C-101B-9397-08002B2CF9AE}" pid="4" name="_dlc_DocIdItemGuid">
    <vt:lpwstr>070c43be-37bf-4628-8ef2-9d3d8132bbdd</vt:lpwstr>
  </property>
  <property fmtid="{D5CDD505-2E9C-101B-9397-08002B2CF9AE}" pid="5" name="_dlc_DocIdUrl">
    <vt:lpwstr>http://docs/units/ejn/_layouts/15/DocIdRedir.aspx?ID=EJN009-892649500-31219, EJN009-892649500-31219</vt:lpwstr>
  </property>
</Properties>
</file>