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2429-5943-4CD4-A269-C92EA4273B63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CBAE-9732-4B56-A4CC-63B208C00161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ABD5-3176-441F-8DE7-9A47E6C7B9FB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AFC-887F-42C8-A108-31A54BCD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A94C-BECB-4CA3-81A9-BAA4FC43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367-E2B5-4BE4-857F-7464BEF3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BD6B-2F94-48F6-AE54-FA54653D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2EA-5560-4183-908D-0C796920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894-F08B-4FB7-8D29-3554782E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02A-1C4B-43D9-9DBE-1790C062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107-514E-463A-931F-AD74800F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11E-090B-4493-AEB4-BD2BFD12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B47-D319-4049-8472-01DADA0C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583-1C10-43B0-9CEA-332E2463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44E-8D7D-4A68-8410-3907083A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3EE2-A276-42DD-BF00-AC1BF6BA2FCA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1" descr=""/>
          <p:cNvPicPr/>
          <p:nvPr/>
        </p:nvPicPr>
        <p:blipFill>
          <a:blip r:embed="rId1"/>
          <a:stretch/>
        </p:blipFill>
        <p:spPr>
          <a:xfrm>
            <a:off x="0" y="81000"/>
            <a:ext cx="9185400" cy="6885000"/>
          </a:xfrm>
          <a:prstGeom prst="rect">
            <a:avLst/>
          </a:prstGeom>
          <a:ln w="0">
            <a:noFill/>
          </a:ln>
        </p:spPr>
      </p:pic>
      <p:sp>
        <p:nvSpPr>
          <p:cNvPr id="87" name="21 Rectángulo"/>
          <p:cNvSpPr/>
          <p:nvPr/>
        </p:nvSpPr>
        <p:spPr>
          <a:xfrm flipV="1">
            <a:off x="0" y="6958080"/>
            <a:ext cx="918036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8 CuadroTexto"/>
          <p:cNvSpPr/>
          <p:nvPr/>
        </p:nvSpPr>
        <p:spPr>
          <a:xfrm>
            <a:off x="-36360" y="37688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  <a:ea typeface="Arial"/>
              </a:rPr>
              <a:t>Borja Jiménez,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  <a:ea typeface="Arial"/>
              </a:rPr>
              <a:t>Public Prosecutor, Spanish General Prosecutor Ofi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  <a:ea typeface="Arial"/>
              </a:rPr>
              <a:t>borja.jimenez@fiscal.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8 CuadroTexto"/>
          <p:cNvSpPr/>
          <p:nvPr/>
        </p:nvSpPr>
        <p:spPr>
          <a:xfrm>
            <a:off x="36360" y="256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ND MEETING EJN CONTACT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 AND WESTERN BALKA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n 1" descr=""/>
          <p:cNvPicPr/>
          <p:nvPr/>
        </p:nvPicPr>
        <p:blipFill>
          <a:blip r:embed="rId2"/>
          <a:stretch/>
        </p:blipFill>
        <p:spPr>
          <a:xfrm>
            <a:off x="4932360" y="549360"/>
            <a:ext cx="366228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MLA requ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Imagen 1" descr=""/>
          <p:cNvPicPr/>
          <p:nvPr/>
        </p:nvPicPr>
        <p:blipFill>
          <a:blip r:embed="rId2"/>
          <a:stretch/>
        </p:blipFill>
        <p:spPr>
          <a:xfrm>
            <a:off x="0" y="1257480"/>
            <a:ext cx="3419640" cy="190944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"/>
          <p:cNvPicPr/>
          <p:nvPr/>
        </p:nvPicPr>
        <p:blipFill>
          <a:blip r:embed="rId3"/>
          <a:stretch/>
        </p:blipFill>
        <p:spPr>
          <a:xfrm>
            <a:off x="6372360" y="1746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29" name="Diagram 2" descr=""/>
          <p:cNvPicPr/>
          <p:nvPr/>
        </p:nvPicPr>
        <p:blipFill>
          <a:blip r:embed="rId4"/>
          <a:stretch/>
        </p:blipFill>
        <p:spPr>
          <a:xfrm>
            <a:off x="689040" y="2408400"/>
            <a:ext cx="77598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8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atified by all WB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atified by all EU MS except Greece and Luxemb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2nd Protocol 1959 Con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n 1" descr=""/>
          <p:cNvPicPr/>
          <p:nvPr/>
        </p:nvPicPr>
        <p:blipFill>
          <a:blip r:embed="rId2"/>
          <a:stretch/>
        </p:blipFill>
        <p:spPr>
          <a:xfrm>
            <a:off x="4572000" y="3811680"/>
            <a:ext cx="46800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refusal of presence of requesting parties officials ( art 4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ide extension of direct transmission of M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00"/>
                </a:solidFill>
                <a:latin typeface="Arial"/>
                <a:ea typeface="Arial"/>
              </a:rPr>
              <a:t>New MLA request: VC, control delivery, convert investigations, JITs,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2nd Protocol 1959 Con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n 1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35053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8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-5130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 authority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making the request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3280" indent="-513000" algn="just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object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of and the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reason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for the reques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3280" indent="-5130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re possible, the identity and the nationality of the person concerned,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3280" indent="-5130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re necessary, the name and address of the person to be serv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3280" indent="-513000" algn="just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LoR  in Articles 3 (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witness, records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, ), 4 (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presence of officers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) and 5 (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search and seize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) shall, in addition, state the offence and contain a summary of the fac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1959 Convention. Basic info to prov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Imagen 1" descr=""/>
          <p:cNvPicPr/>
          <p:nvPr/>
        </p:nvPicPr>
        <p:blipFill>
          <a:blip r:embed="rId2"/>
          <a:stretch/>
        </p:blipFill>
        <p:spPr>
          <a:xfrm>
            <a:off x="7380360" y="981000"/>
            <a:ext cx="17589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agen 1" descr=""/>
          <p:cNvPicPr/>
          <p:nvPr/>
        </p:nvPicPr>
        <p:blipFill>
          <a:blip r:embed="rId1"/>
          <a:stretch/>
        </p:blipFill>
        <p:spPr>
          <a:xfrm>
            <a:off x="-4680" y="-46188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91592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 is mandatory to check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unishable crimes  under both the law of the requesting Party and the law of the requested Pa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Extraditable offence in the requested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onsistent with the law of the requested Par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1959 Convention. Adiitional info when search and seize ( art 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Imagen 1" descr=""/>
          <p:cNvPicPr/>
          <p:nvPr/>
        </p:nvPicPr>
        <p:blipFill>
          <a:blip r:embed="rId2"/>
          <a:stretch/>
        </p:blipFill>
        <p:spPr>
          <a:xfrm>
            <a:off x="457200" y="5398920"/>
            <a:ext cx="29527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58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onfusion between issuing authority and requesting autho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identification of criminal proc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ack  of legal dispositions attach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onfusion between the  description  as  offender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ersu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requests  to declare as a wit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arrative no well aligned with a criminal off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pecfic reservations. CA ro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ack of “desig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Problems identifi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Imagen 1" descr=""/>
          <p:cNvPicPr/>
          <p:nvPr/>
        </p:nvPicPr>
        <p:blipFill>
          <a:blip r:embed="rId2"/>
          <a:stretch/>
        </p:blipFill>
        <p:spPr>
          <a:xfrm>
            <a:off x="5651640" y="5157720"/>
            <a:ext cx="3340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148392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lear distinction between authority who issues the letter and jugde/prosecutor carrying out the investig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ttach legal dis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ort explanations about crimes and involvement of persons affected by 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ligment between description and 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ake clear the contacting autho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etter two/more MLAs than one no execu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Get EJN assistanc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Best prac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Imagen 1" descr=""/>
          <p:cNvPicPr/>
          <p:nvPr/>
        </p:nvPicPr>
        <p:blipFill>
          <a:blip r:embed="rId2"/>
          <a:stretch/>
        </p:blipFill>
        <p:spPr>
          <a:xfrm>
            <a:off x="6659640" y="115920"/>
            <a:ext cx="2143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95280" y="198864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ank you very much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Imagen 1" descr=""/>
          <p:cNvPicPr/>
          <p:nvPr/>
        </p:nvPicPr>
        <p:blipFill>
          <a:blip r:embed="rId2"/>
          <a:stretch/>
        </p:blipFill>
        <p:spPr>
          <a:xfrm>
            <a:off x="6246720" y="5445000"/>
            <a:ext cx="2865600" cy="12193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3" descr=""/>
          <p:cNvPicPr/>
          <p:nvPr/>
        </p:nvPicPr>
        <p:blipFill>
          <a:blip r:embed="rId3"/>
          <a:stretch/>
        </p:blipFill>
        <p:spPr>
          <a:xfrm>
            <a:off x="31680" y="5397480"/>
            <a:ext cx="3229200" cy="141912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4" descr=""/>
          <p:cNvPicPr/>
          <p:nvPr/>
        </p:nvPicPr>
        <p:blipFill>
          <a:blip r:embed="rId4"/>
          <a:stretch/>
        </p:blipFill>
        <p:spPr>
          <a:xfrm>
            <a:off x="3348000" y="5397480"/>
            <a:ext cx="28130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n 1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854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6481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Extradition of nat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Calibri"/>
              </a:rPr>
              <a:t>CoE</a:t>
            </a:r>
            <a:r>
              <a:rPr b="0" lang="es-ES" sz="3200" spc="-1" strike="noStrike">
                <a:solidFill>
                  <a:srgbClr val="ffff00"/>
                </a:solidFill>
                <a:latin typeface="Calibri"/>
              </a:rPr>
              <a:t> European Convention of Extradition 1957( art 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rt 16  UN   Convention  against  Transnational  Organized  Crime  (2000,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Palermo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 Convention) art  44  UN Convention    against  Corruption  (2003,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Merida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Conven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oE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Budapest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Con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ilateral agre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eciprocity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Imagen 3" descr=""/>
          <p:cNvPicPr/>
          <p:nvPr/>
        </p:nvPicPr>
        <p:blipFill>
          <a:blip r:embed="rId2"/>
          <a:stretch/>
        </p:blipFill>
        <p:spPr>
          <a:xfrm>
            <a:off x="5813280" y="4581360"/>
            <a:ext cx="285300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24000" y="1557360"/>
            <a:ext cx="83628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atified by EU MS and WB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lbania, North Macedonia do not surrender natio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ost of MS accept the surrender of nationals. Some exceptions: Croatia, Estonia ( upon consent extraditable pers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S with close links with WB as Greece, Romania, Slovenia, Hungary, Bulgaria ( express mention to reciprocity), Italy, Germany, Austria, France, Spain do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European Convention of Extradition 195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magen 2" descr=""/>
          <p:cNvPicPr/>
          <p:nvPr/>
        </p:nvPicPr>
        <p:blipFill>
          <a:blip r:embed="rId2"/>
          <a:stretch/>
        </p:blipFill>
        <p:spPr>
          <a:xfrm>
            <a:off x="179280" y="544680"/>
            <a:ext cx="1521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052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en no surrender of national, transfer of proceeding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1972 Convention: all WB countries and MS:  Spain, Sweden, Slovak R.,Romania, Netherlands, Lithuania, Latvia, Estonia, Denmark, Netherland, Czech R., Bulgaria, Aust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t 21 1959 MLA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oordinated process ( EJN assista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Use of VC for bilateral coordination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00"/>
                </a:solidFill>
                <a:latin typeface="Arial"/>
                <a:ea typeface="Arial"/>
              </a:rPr>
              <a:t>Seamless cooperation for: issuing LoR, transfering evidences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Imagen 2" descr=""/>
          <p:cNvPicPr/>
          <p:nvPr/>
        </p:nvPicPr>
        <p:blipFill>
          <a:blip r:embed="rId2"/>
          <a:stretch/>
        </p:blipFill>
        <p:spPr>
          <a:xfrm>
            <a:off x="6659640" y="14400"/>
            <a:ext cx="243180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4818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Conflicts between Extradition- E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alibri"/>
              </a:rPr>
              <a:t>No EAW FD rules: “due consideration to all circumstances”: seriousness, places, dat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alibri"/>
              </a:rPr>
              <a:t>Petruhhin: Extradition from third state of a EU citizen to another  MS that don´t surrender n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n 3" descr=""/>
          <p:cNvPicPr/>
          <p:nvPr/>
        </p:nvPicPr>
        <p:blipFill>
          <a:blip r:embed="rId2"/>
          <a:stretch/>
        </p:blipFill>
        <p:spPr>
          <a:xfrm>
            <a:off x="5813280" y="4581360"/>
            <a:ext cx="285300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4818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Practical c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n 3" descr=""/>
          <p:cNvPicPr/>
          <p:nvPr/>
        </p:nvPicPr>
        <p:blipFill>
          <a:blip r:embed="rId2"/>
          <a:stretch/>
        </p:blipFill>
        <p:spPr>
          <a:xfrm>
            <a:off x="6151680" y="336600"/>
            <a:ext cx="2852640" cy="1596960"/>
          </a:xfrm>
          <a:prstGeom prst="rect">
            <a:avLst/>
          </a:prstGeom>
          <a:ln w="0">
            <a:noFill/>
          </a:ln>
        </p:spPr>
      </p:pic>
      <p:pic>
        <p:nvPicPr>
          <p:cNvPr id="110" name="Marcador de contenido 2" descr=""/>
          <p:cNvPicPr/>
          <p:nvPr/>
        </p:nvPicPr>
        <p:blipFill>
          <a:blip r:embed="rId3"/>
          <a:stretch/>
        </p:blipFill>
        <p:spPr>
          <a:xfrm>
            <a:off x="633240" y="2419200"/>
            <a:ext cx="787104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8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t 2 -11: Access to computer system, interceptation of private data, damaging, suppression of computer data, child pornography, infringements of copyrigh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en no Treaty it may be the legal basis ( art 2-11 extraditable offence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en no surrender of nationals, submission the case and coop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Budapest Con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Imagen 1" descr=""/>
          <p:cNvPicPr/>
          <p:nvPr/>
        </p:nvPicPr>
        <p:blipFill>
          <a:blip r:embed="rId2"/>
          <a:stretch/>
        </p:blipFill>
        <p:spPr>
          <a:xfrm>
            <a:off x="5219640" y="4813200"/>
            <a:ext cx="34718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58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egal  basis  for extradition  when no convention is applicable inter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en extradition is for several offences,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only one offenc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has to be listed in the Convention ( Mérid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en no surrender of nationals,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mmediate transfer of ca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transfer of proceeding whe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emporary surrender of nationals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s conditioned to return to serve sente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UN Tre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n 1" descr=""/>
          <p:cNvPicPr/>
          <p:nvPr/>
        </p:nvPicPr>
        <p:blipFill>
          <a:blip r:embed="rId2"/>
          <a:stretch/>
        </p:blipFill>
        <p:spPr>
          <a:xfrm>
            <a:off x="395280" y="792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119" name="Imagen 1" descr=""/>
          <p:cNvPicPr/>
          <p:nvPr/>
        </p:nvPicPr>
        <p:blipFill>
          <a:blip r:embed="rId3"/>
          <a:stretch/>
        </p:blipFill>
        <p:spPr>
          <a:xfrm>
            <a:off x="7164360" y="0"/>
            <a:ext cx="20160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8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egal  ba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Problems detect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Some suggested best practic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Calibri"/>
              </a:rPr>
              <a:t>Challenges with MLA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Imagen 1" descr=""/>
          <p:cNvPicPr/>
          <p:nvPr/>
        </p:nvPicPr>
        <p:blipFill>
          <a:blip r:embed="rId2"/>
          <a:stretch/>
        </p:blipFill>
        <p:spPr>
          <a:xfrm>
            <a:off x="179280" y="5019840"/>
            <a:ext cx="2962440" cy="1542960"/>
          </a:xfrm>
          <a:prstGeom prst="rect">
            <a:avLst/>
          </a:prstGeom>
          <a:ln w="0">
            <a:noFill/>
          </a:ln>
        </p:spPr>
      </p:pic>
      <p:pic>
        <p:nvPicPr>
          <p:cNvPr id="124" name="Imagen 2" descr=""/>
          <p:cNvPicPr/>
          <p:nvPr/>
        </p:nvPicPr>
        <p:blipFill>
          <a:blip r:embed="rId3"/>
          <a:stretch/>
        </p:blipFill>
        <p:spPr>
          <a:xfrm>
            <a:off x="4954680" y="1341360"/>
            <a:ext cx="4171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8T15:34:52Z</dcterms:created>
  <dc:creator>imartin</dc:creator>
  <dc:description/>
  <dc:language>en-US</dc:language>
  <cp:lastModifiedBy>Borja Jimenez Muñoz</cp:lastModifiedBy>
  <dcterms:modified xsi:type="dcterms:W3CDTF">2020-12-10T17:13:21Z</dcterms:modified>
  <cp:revision>11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LCPolicyLabelValue">
    <vt:lpwstr>Document ID:EJN009-892649500-31217</vt:lpwstr>
  </property>
  <property fmtid="{D5CDD505-2E9C-101B-9397-08002B2CF9AE}" pid="3" name="TaxCatchAll">
    <vt:lpwstr/>
  </property>
  <property fmtid="{D5CDD505-2E9C-101B-9397-08002B2CF9AE}" pid="4" name="_dlc_DocId">
    <vt:lpwstr>EJN009-892649500-31217</vt:lpwstr>
  </property>
  <property fmtid="{D5CDD505-2E9C-101B-9397-08002B2CF9AE}" pid="5" name="_dlc_DocIdItemGuid">
    <vt:lpwstr>f70e214f-ecf7-451a-850c-f4e74372ecef</vt:lpwstr>
  </property>
  <property fmtid="{D5CDD505-2E9C-101B-9397-08002B2CF9AE}" pid="6" name="_dlc_DocIdUrl">
    <vt:lpwstr>http://docs/units/ejn/_layouts/15/DocIdRedir.aspx?ID=EJN009-892649500-31217, EJN009-892649500-31217</vt:lpwstr>
  </property>
  <property fmtid="{D5CDD505-2E9C-101B-9397-08002B2CF9AE}" pid="7" name="aed717434f4f461dbe4305df156dcd3a">
    <vt:lpwstr/>
  </property>
  <property fmtid="{D5CDD505-2E9C-101B-9397-08002B2CF9AE}" pid="8" name="af591f007799481583e87951642adf22">
    <vt:lpwstr/>
  </property>
  <property fmtid="{D5CDD505-2E9C-101B-9397-08002B2CF9AE}" pid="9" name="palabrasclaveempresa">
    <vt:lpwstr/>
  </property>
  <property fmtid="{D5CDD505-2E9C-101B-9397-08002B2CF9AE}" pid="10" name="palabrasclavesitio">
    <vt:lpwstr/>
  </property>
</Properties>
</file>