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3171-62C5-4E00-8555-60547AC5BCC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AC02-745D-487D-9C51-456CE850D7FB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874C-738F-4E37-ACF3-4A881242BABD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9EB-F675-4DBD-B752-0922CBD7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2B8-0244-429E-B0A2-DE0E9411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D73-DD7D-4902-ABF1-5ABCE516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F41-F6B7-4BCF-953C-37C8E52C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711-9EA9-4EC6-A8FC-468FC057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D8E-908E-4792-8437-3D7213F1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128-1FB3-4718-B7EA-645222C8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15B-0C17-4B56-BC26-6046388F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25A-0A6E-4EE3-AEE6-2BF147C1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0C4-4D35-4C7A-8B1C-820E0D33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036-353B-4002-9068-DCCAA501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B01-46CE-4923-9732-E43F4681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056E-E270-4857-8217-3B9B945E89CD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1" descr=""/>
          <p:cNvPicPr/>
          <p:nvPr/>
        </p:nvPicPr>
        <p:blipFill>
          <a:blip r:embed="rId1"/>
          <a:stretch/>
        </p:blipFill>
        <p:spPr>
          <a:xfrm>
            <a:off x="0" y="81000"/>
            <a:ext cx="9185400" cy="6885000"/>
          </a:xfrm>
          <a:prstGeom prst="rect">
            <a:avLst/>
          </a:prstGeom>
          <a:ln w="0">
            <a:noFill/>
          </a:ln>
        </p:spPr>
      </p:pic>
      <p:sp>
        <p:nvSpPr>
          <p:cNvPr id="87" name="21 Rectángulo"/>
          <p:cNvSpPr/>
          <p:nvPr/>
        </p:nvSpPr>
        <p:spPr>
          <a:xfrm flipV="1">
            <a:off x="0" y="6958080"/>
            <a:ext cx="918036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8 CuadroTexto"/>
          <p:cNvSpPr/>
          <p:nvPr/>
        </p:nvSpPr>
        <p:spPr>
          <a:xfrm>
            <a:off x="-36360" y="37688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  <a:ea typeface="Arial"/>
              </a:rPr>
              <a:t>Borja Jiménez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  <a:ea typeface="Arial"/>
              </a:rPr>
              <a:t>Public Prosecutor, Spanish General Prosecutor Ofi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  <a:ea typeface="Arial"/>
              </a:rPr>
              <a:t>borja.jimenez@fiscal.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8 CuadroTexto"/>
          <p:cNvSpPr/>
          <p:nvPr/>
        </p:nvSpPr>
        <p:spPr>
          <a:xfrm>
            <a:off x="3636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ND MEETING EJN CONTACT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 AND WESTERN BALKA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n 1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66228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MLA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Imagen 1" descr=""/>
          <p:cNvPicPr/>
          <p:nvPr/>
        </p:nvPicPr>
        <p:blipFill>
          <a:blip r:embed="rId2"/>
          <a:stretch/>
        </p:blipFill>
        <p:spPr>
          <a:xfrm>
            <a:off x="0" y="1257480"/>
            <a:ext cx="3419640" cy="190944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"/>
          <p:cNvPicPr/>
          <p:nvPr/>
        </p:nvPicPr>
        <p:blipFill>
          <a:blip r:embed="rId3"/>
          <a:stretch/>
        </p:blipFill>
        <p:spPr>
          <a:xfrm>
            <a:off x="6372360" y="174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9" name="Diagram 2" descr=""/>
          <p:cNvPicPr/>
          <p:nvPr/>
        </p:nvPicPr>
        <p:blipFill>
          <a:blip r:embed="rId4"/>
          <a:stretch/>
        </p:blipFill>
        <p:spPr>
          <a:xfrm>
            <a:off x="689040" y="2408400"/>
            <a:ext cx="77598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atified by all WB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atified by all EU MS except Greece and Luxemb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2nd Protocol 1959 Con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n 1" descr=""/>
          <p:cNvPicPr/>
          <p:nvPr/>
        </p:nvPicPr>
        <p:blipFill>
          <a:blip r:embed="rId2"/>
          <a:stretch/>
        </p:blipFill>
        <p:spPr>
          <a:xfrm>
            <a:off x="4572000" y="3811680"/>
            <a:ext cx="4680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refusal of presence of requesting parties officials ( art 4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ide extension of direct transmission of M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00"/>
                </a:solidFill>
                <a:latin typeface="Arial"/>
                <a:ea typeface="Arial"/>
              </a:rPr>
              <a:t>New MLA request: VC, control delivery, convert investigations, JITs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2nd Protocol 1959 Con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n 1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35053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-5130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 authority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making the request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3280" indent="-513000" algn="just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object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of and the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reason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for the reques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3280" indent="-5130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re possible, the identity and the nationality of the person concerned,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3280" indent="-5130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re necessary, the name and address of the person to be ser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3280" indent="-513000" algn="just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oR  in Articles 3 (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witness, records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, ), 4 (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presence of officers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) and 5 (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search and seize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) shall, in addition, state the offence and contain a summary of the fac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1959 Convention. Basic info to pro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Imagen 1" descr=""/>
          <p:cNvPicPr/>
          <p:nvPr/>
        </p:nvPicPr>
        <p:blipFill>
          <a:blip r:embed="rId2"/>
          <a:stretch/>
        </p:blipFill>
        <p:spPr>
          <a:xfrm>
            <a:off x="7380360" y="981000"/>
            <a:ext cx="17589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n 1" descr=""/>
          <p:cNvPicPr/>
          <p:nvPr/>
        </p:nvPicPr>
        <p:blipFill>
          <a:blip r:embed="rId1"/>
          <a:stretch/>
        </p:blipFill>
        <p:spPr>
          <a:xfrm>
            <a:off x="-4680" y="-46188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91592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 is mandatory to check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unishable crimes  under both the law of the requesting Party and the law of the requested P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xtraditable offence in the requested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nsistent with the law of the requested Par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1959 Convention. Adiitional info when search and seize ( art 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Imagen 1" descr=""/>
          <p:cNvPicPr/>
          <p:nvPr/>
        </p:nvPicPr>
        <p:blipFill>
          <a:blip r:embed="rId2"/>
          <a:stretch/>
        </p:blipFill>
        <p:spPr>
          <a:xfrm>
            <a:off x="457200" y="5398920"/>
            <a:ext cx="2952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nfusion between issuing authority and requesting auth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identification of criminal proc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ack  of legal dispositions attach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nfusion between the  description  as  offender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ersu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requests  to declare as a wi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arrative no well aligned with a criminal off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pecfic reservations. CA ro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ack of “desig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Problems identifi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Imagen 1" descr=""/>
          <p:cNvPicPr/>
          <p:nvPr/>
        </p:nvPicPr>
        <p:blipFill>
          <a:blip r:embed="rId2"/>
          <a:stretch/>
        </p:blipFill>
        <p:spPr>
          <a:xfrm>
            <a:off x="5651640" y="5157720"/>
            <a:ext cx="3340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48392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lear distinction between authority who issues the letter and jugde/prosecutor carrying out the investi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ttach legal dis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ort explanations about crimes and involvement of persons affected by 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ligment between description and 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ake clear the contacting auth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tter two/more MLAs than one no execu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Get EJN assistanc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Imagen 1" descr=""/>
          <p:cNvPicPr/>
          <p:nvPr/>
        </p:nvPicPr>
        <p:blipFill>
          <a:blip r:embed="rId2"/>
          <a:stretch/>
        </p:blipFill>
        <p:spPr>
          <a:xfrm>
            <a:off x="6659640" y="115920"/>
            <a:ext cx="2143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95280" y="198864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ank you very much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Imagen 1" descr=""/>
          <p:cNvPicPr/>
          <p:nvPr/>
        </p:nvPicPr>
        <p:blipFill>
          <a:blip r:embed="rId2"/>
          <a:stretch/>
        </p:blipFill>
        <p:spPr>
          <a:xfrm>
            <a:off x="6246720" y="5445000"/>
            <a:ext cx="2865600" cy="12193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3" descr=""/>
          <p:cNvPicPr/>
          <p:nvPr/>
        </p:nvPicPr>
        <p:blipFill>
          <a:blip r:embed="rId3"/>
          <a:stretch/>
        </p:blipFill>
        <p:spPr>
          <a:xfrm>
            <a:off x="31680" y="5397480"/>
            <a:ext cx="3229200" cy="141912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4" descr=""/>
          <p:cNvPicPr/>
          <p:nvPr/>
        </p:nvPicPr>
        <p:blipFill>
          <a:blip r:embed="rId4"/>
          <a:stretch/>
        </p:blipFill>
        <p:spPr>
          <a:xfrm>
            <a:off x="3348000" y="5397480"/>
            <a:ext cx="28130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n 1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854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6481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Extradition of nat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alibri"/>
              </a:rPr>
              <a:t>CoE</a:t>
            </a: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 European Convention of Extradition 1957( art 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rt 16  UN   Convention  against  Transnational  Organized  Crime  (2000,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Palermo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Convention) art  44  UN Convention    against  Corruption  (2003,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erida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Conven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oE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Budapest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Con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ilateral agre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ciprocity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Imagen 3" descr=""/>
          <p:cNvPicPr/>
          <p:nvPr/>
        </p:nvPicPr>
        <p:blipFill>
          <a:blip r:embed="rId2"/>
          <a:stretch/>
        </p:blipFill>
        <p:spPr>
          <a:xfrm>
            <a:off x="5813280" y="4581360"/>
            <a:ext cx="285300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24000" y="1557360"/>
            <a:ext cx="83628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atified by EU MS and WB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lbania, North Macedonia do not surrender natio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ost of MS accept the surrender of nationals. Some exceptions: Croatia, Estonia ( upon consent extraditable pers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S with close links with WB as Greece, Romania, Slovenia, Hungary, Bulgaria ( express mention to reciprocity), Italy, Germany, Austria, France, Spain d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European Convention of Extradition 195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n 2" descr=""/>
          <p:cNvPicPr/>
          <p:nvPr/>
        </p:nvPicPr>
        <p:blipFill>
          <a:blip r:embed="rId2"/>
          <a:stretch/>
        </p:blipFill>
        <p:spPr>
          <a:xfrm>
            <a:off x="179280" y="544680"/>
            <a:ext cx="1521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052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no surrender of national, transfer of proceeding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1972 Convention: all WB countries and MS:  Spain, Sweden, Slovak R.,Romania, Netherlands, Lithuania, Latvia, Estonia, Denmark, Netherland, Czech R., Bulgaria, Aust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t 21 1959 MLA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ordinated process ( EJN assista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se of VC for bilateral coordination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00"/>
                </a:solidFill>
                <a:latin typeface="Arial"/>
                <a:ea typeface="Arial"/>
              </a:rPr>
              <a:t>Seamless cooperation for: issuing LoR, transfering evidences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Imagen 2" descr=""/>
          <p:cNvPicPr/>
          <p:nvPr/>
        </p:nvPicPr>
        <p:blipFill>
          <a:blip r:embed="rId2"/>
          <a:stretch/>
        </p:blipFill>
        <p:spPr>
          <a:xfrm>
            <a:off x="6659640" y="14400"/>
            <a:ext cx="24318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481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Conflicts between Extradition- E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No EAW FD rules: “due consideration to all circumstances”: seriousness, places, dat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Petruhhin: Extradition from third state of a EU citizen to another  MS that don´t surrender n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n 3" descr=""/>
          <p:cNvPicPr/>
          <p:nvPr/>
        </p:nvPicPr>
        <p:blipFill>
          <a:blip r:embed="rId2"/>
          <a:stretch/>
        </p:blipFill>
        <p:spPr>
          <a:xfrm>
            <a:off x="5813280" y="4581360"/>
            <a:ext cx="285300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481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Practical c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n 3" descr=""/>
          <p:cNvPicPr/>
          <p:nvPr/>
        </p:nvPicPr>
        <p:blipFill>
          <a:blip r:embed="rId2"/>
          <a:stretch/>
        </p:blipFill>
        <p:spPr>
          <a:xfrm>
            <a:off x="6151680" y="336600"/>
            <a:ext cx="2852640" cy="1596960"/>
          </a:xfrm>
          <a:prstGeom prst="rect">
            <a:avLst/>
          </a:prstGeom>
          <a:ln w="0">
            <a:noFill/>
          </a:ln>
        </p:spPr>
      </p:pic>
      <p:pic>
        <p:nvPicPr>
          <p:cNvPr id="110" name="Marcador de contenido 2" descr=""/>
          <p:cNvPicPr/>
          <p:nvPr/>
        </p:nvPicPr>
        <p:blipFill>
          <a:blip r:embed="rId3"/>
          <a:stretch/>
        </p:blipFill>
        <p:spPr>
          <a:xfrm>
            <a:off x="633240" y="2419200"/>
            <a:ext cx="787104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t 2 -11: Access to computer system, interceptation of private data, damaging, suppression of computer data, child pornography, infringements of copyrigh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no Treaty it may be the legal basis ( art 2-11 extraditable offenc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no surrender of nationals, submission the case and co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Budapest Con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n 1" descr=""/>
          <p:cNvPicPr/>
          <p:nvPr/>
        </p:nvPicPr>
        <p:blipFill>
          <a:blip r:embed="rId2"/>
          <a:stretch/>
        </p:blipFill>
        <p:spPr>
          <a:xfrm>
            <a:off x="5219640" y="4813200"/>
            <a:ext cx="34718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egal  basis  for extradition  when no convention is applicable inter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extradition is for several offences,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only one offenc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has to be listed in the Convention ( Mérid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no surrender of nationals,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mmediate transfer of c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transfer of proceeding whe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emporary surrender of nationals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s conditioned to return to serve sent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UN Tre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n 1" descr=""/>
          <p:cNvPicPr/>
          <p:nvPr/>
        </p:nvPicPr>
        <p:blipFill>
          <a:blip r:embed="rId2"/>
          <a:stretch/>
        </p:blipFill>
        <p:spPr>
          <a:xfrm>
            <a:off x="395280" y="792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119" name="Imagen 1" descr=""/>
          <p:cNvPicPr/>
          <p:nvPr/>
        </p:nvPicPr>
        <p:blipFill>
          <a:blip r:embed="rId3"/>
          <a:stretch/>
        </p:blipFill>
        <p:spPr>
          <a:xfrm>
            <a:off x="7164360" y="0"/>
            <a:ext cx="2016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n 1" descr=""/>
          <p:cNvPicPr/>
          <p:nvPr/>
        </p:nvPicPr>
        <p:blipFill>
          <a:blip r:embed="rId1"/>
          <a:stretch/>
        </p:blipFill>
        <p:spPr>
          <a:xfrm>
            <a:off x="-4680" y="-9360"/>
            <a:ext cx="9185040" cy="689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egal  ba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Problems detect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ome suggested best practic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Calibri"/>
              </a:rPr>
              <a:t>Challenges with MLA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Imagen 1" descr=""/>
          <p:cNvPicPr/>
          <p:nvPr/>
        </p:nvPicPr>
        <p:blipFill>
          <a:blip r:embed="rId2"/>
          <a:stretch/>
        </p:blipFill>
        <p:spPr>
          <a:xfrm>
            <a:off x="179280" y="5019840"/>
            <a:ext cx="2962440" cy="154296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2" descr=""/>
          <p:cNvPicPr/>
          <p:nvPr/>
        </p:nvPicPr>
        <p:blipFill>
          <a:blip r:embed="rId3"/>
          <a:stretch/>
        </p:blipFill>
        <p:spPr>
          <a:xfrm>
            <a:off x="4954680" y="1341360"/>
            <a:ext cx="4171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8T15:34:52Z</dcterms:created>
  <dc:creator>imartin</dc:creator>
  <dc:description/>
  <dc:language>en-US</dc:language>
  <cp:lastModifiedBy>Borja Jimenez Muñoz</cp:lastModifiedBy>
  <dcterms:modified xsi:type="dcterms:W3CDTF">2020-12-10T17:13:21Z</dcterms:modified>
  <cp:revision>11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LCPolicyLabelValue">
    <vt:lpwstr>Document ID:EJN009-892649500-31217</vt:lpwstr>
  </property>
  <property fmtid="{D5CDD505-2E9C-101B-9397-08002B2CF9AE}" pid="3" name="TaxCatchAll">
    <vt:lpwstr/>
  </property>
  <property fmtid="{D5CDD505-2E9C-101B-9397-08002B2CF9AE}" pid="4" name="_dlc_DocId">
    <vt:lpwstr>EJN009-892649500-31217</vt:lpwstr>
  </property>
  <property fmtid="{D5CDD505-2E9C-101B-9397-08002B2CF9AE}" pid="5" name="_dlc_DocIdItemGuid">
    <vt:lpwstr>f70e214f-ecf7-451a-850c-f4e74372ecef</vt:lpwstr>
  </property>
  <property fmtid="{D5CDD505-2E9C-101B-9397-08002B2CF9AE}" pid="6" name="_dlc_DocIdUrl">
    <vt:lpwstr>http://docs/units/ejn/_layouts/15/DocIdRedir.aspx?ID=EJN009-892649500-31217, EJN009-892649500-31217</vt:lpwstr>
  </property>
  <property fmtid="{D5CDD505-2E9C-101B-9397-08002B2CF9AE}" pid="7" name="aed717434f4f461dbe4305df156dcd3a">
    <vt:lpwstr/>
  </property>
  <property fmtid="{D5CDD505-2E9C-101B-9397-08002B2CF9AE}" pid="8" name="af591f007799481583e87951642adf22">
    <vt:lpwstr/>
  </property>
  <property fmtid="{D5CDD505-2E9C-101B-9397-08002B2CF9AE}" pid="9" name="palabrasclaveempresa">
    <vt:lpwstr/>
  </property>
  <property fmtid="{D5CDD505-2E9C-101B-9397-08002B2CF9AE}" pid="10" name="palabrasclavesitio">
    <vt:lpwstr/>
  </property>
</Properties>
</file>